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3968-6866-4FDC-A66F-176538D5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CA0-2B56-4B81-83C9-7677A3A1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ilkweed from: http://jackiecnaturalresources2015.weebly.com/planting-milkweed--support-monarchs-in-v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5C4C-5412-4B59-A74D-ED55FA9C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from: https://www.nasa.gov/topics/earth/features/2011-temp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531-7CD6-4A33-B3D3-A41A807D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ld.time.com/2012/12/14/what-if-the-worlds-soil-runs-ou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868-4776-460A-BF02-E0117DD8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AB6-2EC0-4C55-B639-1C4DA930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quizlet.com/98819302/lab-topic-7-plant-functional-anatomy-flash-car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F491-0B44-46F5-BFD7-12DD53C4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5/growth-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092-5016-4EC5-9918-C70C21B7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DE6-1434-4646-8DF6-43DC7B37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6470-A569-4852-8392-66E33CB7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7287-F8A6-4478-A397-3543A525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group.org/EMspectr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rshscience.blogspot.ca/2015/02/adapt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36E-0BB1-4C07-A6E0-F7142857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lantscience4u.com/2014/11/advantages-and-disadvantages-of.html#.WD66JzKZO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C81-76C2-4BA7-8DC6-A7C2566C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88A-7E04-48A2-8D96-CD75D7D9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2A8-B0B6-4973-AC62-0D9CE751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79D-8B20-408F-89D5-B4A65B13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1DC-78BD-47F4-A13B-5D852B0C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3C5-4747-4BF6-83D3-858B32B9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50E-37EC-4231-8AB4-08210243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7C2-FD40-45A2-A76D-83CB116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F48-B9BD-47FF-B090-7321AA4A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21E-ABBF-49F4-AC2F-2E94A87B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3DD-6258-4DF5-B0B9-082872D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006-DA45-4A79-A520-4779C20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71A-3E56-4834-947F-19F1F1B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BF2D-DEFE-4EAE-999D-E2B0AF89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species usually have optimal ranges for all cellula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species, seeds will only germinate after a period of “cold treat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4" descr="5414381_orig.jpg"/>
          <p:cNvPicPr/>
          <p:nvPr/>
        </p:nvPicPr>
        <p:blipFill>
          <a:blip r:embed="rId1"/>
          <a:srcRect l="19599" t="0" r="195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63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plants be affected by climat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roots, holds water &amp; dissolved nutrients, allows roots to exchang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characteristics include amount of sand, clay, humus,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5" descr="int-soil-1213.jpg"/>
          <p:cNvPicPr/>
          <p:nvPr/>
        </p:nvPicPr>
        <p:blipFill>
          <a:blip r:embed="rId1"/>
          <a:srcRect l="20064" t="0" r="200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35-12-MajorMeristems-L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35_12PrimaryRootGrowth.jpg"/>
          <p:cNvPicPr/>
          <p:nvPr/>
        </p:nvPicPr>
        <p:blipFill>
          <a:blip r:embed="rId1"/>
          <a:srcRect l="-34045" t="0" r="-3404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7" descr="35_18StemGrowth.jpg"/>
          <p:cNvPicPr/>
          <p:nvPr/>
        </p:nvPicPr>
        <p:blipFill>
          <a:blip r:embed="rId1"/>
          <a:srcRect l="-31306" t="0" r="-31306" b="0"/>
          <a:stretch/>
        </p:blipFill>
        <p:spPr>
          <a:xfrm>
            <a:off x="324000" y="1916280"/>
            <a:ext cx="8583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rticle-new-ehow-images-a06-m6-12-factors-germination-mung-beans-grow-1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wavelengths are absorbed by pigments in leaves, optimizing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5" descr="EMspectrum.jpg"/>
          <p:cNvPicPr/>
          <p:nvPr/>
        </p:nvPicPr>
        <p:blipFill>
          <a:blip r:embed="rId1"/>
          <a:srcRect l="0" t="-52411" r="0" b="-5241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period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day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t species time events such as flowering, dropping their leaves, etc. to changes in the length of day or quality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sci_225_2_figure9.jpg"/>
          <p:cNvPicPr/>
          <p:nvPr/>
        </p:nvPicPr>
        <p:blipFill>
          <a:blip r:embed="rId1"/>
          <a:srcRect l="0" t="-33936" r="0" b="-3393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substances obtained by plants from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, P, K) are needed in large quantitie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4" descr="Fertilizer NPK[7].jpg"/>
          <p:cNvPicPr/>
          <p:nvPr/>
        </p:nvPicPr>
        <p:blipFill>
          <a:blip r:embed="rId1"/>
          <a:srcRect l="0" t="-19811" r="0" b="-1981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1:50:39Z</dcterms:modified>
  <cp:revision>59</cp:revision>
  <dc:subject/>
  <dc:title>Plant Growth</dc:title>
</cp:coreProperties>
</file>